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66960-9235-4054-8AED-B56909820C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A7991-15F6-4BC5-B878-1326C801AA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158CC-80F1-4A3A-AADA-530EDCF43A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5280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35C6F-D06E-4A61-A885-E2BE20E367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1D3A3-B246-4731-8D2A-0784BF7BC3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8B75A-AE25-4596-A043-8D4C247726A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15806-3492-40BA-84CC-93A0B2AA9A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357F3-EE20-4D79-AA44-F8805F81C6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A04FB-37D9-498F-BF95-4903051510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3B000-FE6A-48F8-800F-C8B06291CA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4BD94-12E1-4167-B59D-63AAD6A452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E9FE3-BC36-477E-B83D-DAB9324F7A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50126-7AC2-415B-91F8-63FD7C4027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DFF27-76AC-42C6-B321-B23003B80B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359480" y="6248160"/>
            <a:ext cx="29232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050FB-BC05-43D3-9066-9DB52F57F6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3"/>
          <p:cNvSpPr/>
          <p:nvPr/>
        </p:nvSpPr>
        <p:spPr>
          <a:xfrm>
            <a:off x="304920" y="152280"/>
            <a:ext cx="36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6"/>
          <p:cNvSpPr/>
          <p:nvPr/>
        </p:nvSpPr>
        <p:spPr>
          <a:xfrm>
            <a:off x="2525760" y="3213000"/>
            <a:ext cx="6465960" cy="16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 fontScale="87000"/>
          </a:bodyPr>
          <a:p>
            <a:pPr marL="34200" algn="ctr">
              <a:lnSpc>
                <a:spcPct val="70000"/>
              </a:lnSpc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ISIBLE AND / OR INVI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200" algn="ctr">
              <a:lnSpc>
                <a:spcPct val="70000"/>
              </a:lnSpc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ense Pulsed Ligh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200" algn="ctr">
              <a:lnSpc>
                <a:spcPct val="70000"/>
              </a:lnSpc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200" algn="ctr">
              <a:lnSpc>
                <a:spcPct val="70000"/>
              </a:lnSpc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OID UNPROTECTED OCCULAR EXPO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200" algn="ctr">
              <a:lnSpc>
                <a:spcPct val="7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RECT OR SCATTERED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Straight Connector 33"/>
          <p:cNvSpPr/>
          <p:nvPr/>
        </p:nvSpPr>
        <p:spPr>
          <a:xfrm>
            <a:off x="2525760" y="2919240"/>
            <a:ext cx="0" cy="3862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1"/>
          <p:cNvSpPr/>
          <p:nvPr/>
        </p:nvSpPr>
        <p:spPr>
          <a:xfrm>
            <a:off x="76320" y="152280"/>
            <a:ext cx="8991360" cy="2766960"/>
          </a:xfrm>
          <a:prstGeom prst="rect">
            <a:avLst/>
          </a:prstGeom>
          <a:solidFill>
            <a:srgbClr val="ffa1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76320" y="152280"/>
            <a:ext cx="8991360" cy="6629400"/>
          </a:xfrm>
          <a:prstGeom prst="rect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181080" y="3738600"/>
            <a:ext cx="2260440" cy="2014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" descr=""/>
          <p:cNvPicPr/>
          <p:nvPr/>
        </p:nvPicPr>
        <p:blipFill>
          <a:blip r:embed="rId2"/>
          <a:stretch/>
        </p:blipFill>
        <p:spPr>
          <a:xfrm>
            <a:off x="372960" y="892080"/>
            <a:ext cx="1322640" cy="1154160"/>
          </a:xfrm>
          <a:prstGeom prst="rect">
            <a:avLst/>
          </a:prstGeom>
          <a:ln w="0">
            <a:noFill/>
          </a:ln>
        </p:spPr>
      </p:pic>
      <p:sp>
        <p:nvSpPr>
          <p:cNvPr id="53" name="TextBox 16"/>
          <p:cNvSpPr/>
          <p:nvPr/>
        </p:nvSpPr>
        <p:spPr>
          <a:xfrm>
            <a:off x="860400" y="1077840"/>
            <a:ext cx="8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Bangla MN"/>
                <a:ea typeface="Ayuthaya"/>
              </a:rPr>
              <a:t>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1698480" y="544680"/>
            <a:ext cx="72565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 fontScale="93000"/>
          </a:bodyPr>
          <a:p>
            <a:pPr marL="36720" algn="ctr">
              <a:lnSpc>
                <a:spcPct val="100000"/>
              </a:lnSpc>
              <a:spcBef>
                <a:spcPts val="5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Franklin Gothic Medium"/>
                <a:ea typeface="Tahoma"/>
              </a:rPr>
              <a:t>WARNING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Straight Connector 33"/>
          <p:cNvSpPr/>
          <p:nvPr/>
        </p:nvSpPr>
        <p:spPr>
          <a:xfrm>
            <a:off x="76320" y="2919240"/>
            <a:ext cx="8991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7"/>
          <p:cNvSpPr/>
          <p:nvPr/>
        </p:nvSpPr>
        <p:spPr>
          <a:xfrm>
            <a:off x="3044880" y="5626080"/>
            <a:ext cx="5334120" cy="7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tense Pulsed L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avelengths: 400nm – 1400n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E. Hoopman</dc:creator>
  <dc:description/>
  <cp:keywords/>
  <dc:language>en-US</dc:language>
  <cp:lastModifiedBy>John Hoopman</cp:lastModifiedBy>
  <cp:lastPrinted>2018-08-15T15:18:09Z</cp:lastPrinted>
  <dcterms:modified xsi:type="dcterms:W3CDTF">2020-03-25T15:08:19Z</dcterms:modified>
  <cp:revision>39</cp:revision>
  <dc:subject/>
  <dc:title>PowerPoint Presentation</dc:title>
</cp:coreProperties>
</file>